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76418"/>
        <c:axId val="81793887"/>
      </c:barChart>
      <c:catAx>
        <c:axId val="213764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93887"/>
        <c:crosses val="autoZero"/>
        <c:auto val="1"/>
        <c:lblAlgn val="ctr"/>
        <c:lblOffset val="100"/>
        <c:noMultiLvlLbl val="0"/>
      </c:catAx>
      <c:valAx>
        <c:axId val="81793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764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448-DA04-4D20-8408-11C604878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BB9E-A6DA-4AC9-A394-51739E7C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E08-1848-4587-9F73-E321AF104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B4FA-2205-41E5-B1B7-8A3C0BBF5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6BB1-F31F-4570-92BF-BBE9537C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79E-D949-44C5-93F5-8ACC0F24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8E8-2C05-4686-A2E6-F7B77216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D25C-E18F-4178-9316-7DC44EAE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7E2-7563-4D7A-A886-7A15026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4895-84B4-472C-BF5D-5B167D4B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ED5-AC1A-4539-9714-86D6B2D4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9B27-03C1-4505-8688-1F73AF1C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4B0D-AB52-4270-A13E-7BFF617138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